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F24A-BE75-4682-A092-DCD61E99C5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9E94-E7E2-4C1A-A22B-F197B7E35C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28F0-7D97-45BD-AAD7-62AB1B13E3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5EF3-4FE5-4450-B5BF-7843653F8D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71B3-40DA-4F22-BD55-DE30A1CF39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EA73-CC91-4C0B-9577-9293B10198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FAA-7763-4EDA-B82E-62865692D5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D79A-B04B-4A82-BE22-CF65F67362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5F5F-CBA0-465C-9651-829A3F8846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EC00-492E-4C73-A1C0-78A18E37F9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6054-8A7B-4058-A63E-977D83E9B3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DD9C-C803-4CB3-8C1E-A333E31FB4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4AEB-2EEF-4D0C-8F59-97CF9892F0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7914-97A4-48A6-ABE7-AE445C45A2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2B5C-D7A9-48B5-8CBF-12ED71E134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474C-589A-4937-92BA-650252DA24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97C3-F880-430F-9603-FF7C4AF663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622E-30C8-447F-8377-D576597EF6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B737-561F-492B-9CF4-E8ED8F1315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DE95-99B2-41BB-A6D7-5CFB48EC7D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BC23-F97B-46DA-860C-4F5B41FE6E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010E-1D95-42A6-847D-F8C5491B0C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EDC1-73B0-4432-9678-32B8C648E4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379F-5C0B-4DE0-A4EA-37DF121ECD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786-F14C-49C0-AE60-08C10CAF22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987E-C960-483C-AB2B-ACC0EA93EB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E6B1-2976-4D10-9D41-F61505D623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2FBB-6226-4E4C-8C11-1F64AD5E1C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42FA-7F17-4676-86FF-A998DB1079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351E-D092-4697-930E-FAFF88F802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D34E-6985-44D1-B6A4-7863A60BB1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FD88-1349-4E43-A370-482395D4B4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3CD4-9703-4E74-960F-175298BB427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5056-3FCB-4913-A42E-B5999217EC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A93-D67C-40AB-BFCC-3E95C3F58B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3CD-CFF9-4A82-84F3-60BD3C281B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8216-BF14-4641-A90A-8DCEC0E6DC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F34-C1C0-4D9F-9890-56FDA73F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D5A-B58C-4D30-9ED3-6FEB28ED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A9C-F708-4F3F-841C-D46E83C3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5D0-DEC8-4B97-B361-31FC67E2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DD7-A2EA-4DE4-A98F-FF310547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24D-C328-430E-8AB3-48E44C0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026-296A-47E2-A008-0A4B5050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DB0-CC61-47B4-AE35-19F11263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C6E-D150-4C51-9E5C-FDFBEE68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7F6-8DB0-4AA0-91E2-7C37D67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84E-848A-42DB-A248-7F2086A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C3D-A39A-4816-BB6A-EC87643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FC54-1B24-4293-A1EC-6FFC21EAC38A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心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l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음 속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嘛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355720"/>
            <a:ext cx="6381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어기조사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당연을 나타냄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b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보통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参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nji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참가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高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āok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355720"/>
            <a:ext cx="6381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중국의 대학 입학 시험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多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dàduōshù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대다수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省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ěngfè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성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省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험 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每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měiniá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하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처리하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728760"/>
            <a:ext cx="6264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hàngwǎng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인터넷을 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í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급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认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ènzhē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진지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明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míngniá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내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iǎoxué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초등학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初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ūzhō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학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当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āngrá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당연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好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ǎohāor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努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ǔl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력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랑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옮기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帮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bāngzhù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돕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重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òngyào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요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毕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ìy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졸업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u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입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쓰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끼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잃어버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访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fǎngwè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문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负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z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책임지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干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相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iāngxì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믿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ìj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신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기조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愿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àny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소비하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쓰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me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렇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5:55:50Z</dcterms:created>
  <dc:creator>System</dc:creator>
  <dc:description/>
  <dc:language>en-US</dc:language>
  <cp:lastModifiedBy>System</cp:lastModifiedBy>
  <dcterms:modified xsi:type="dcterms:W3CDTF">2014-01-28T04:12:05Z</dcterms:modified>
  <cp:revision>4</cp:revision>
  <dc:subject/>
  <dc:title>슬라이드 1</dc:title>
</cp:coreProperties>
</file>